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E03-D4DE-4FF3-85B7-0A0A1BCE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A1C-8B9E-44C7-83AA-B814A7A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994-E007-45C1-A68B-4385838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51F-BEB6-46ED-BD43-18A0A05C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FAF-5DA3-4AA2-AC36-9F145F2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636-05F4-4134-B2F1-63063253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338-9DFD-40C4-B5BF-D4AF0ED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269-368A-4F7F-B4B1-51E98CA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577-70CC-4B6C-B291-355A545B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C14-5369-411F-A02C-359C5343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8AD-663F-463B-8D6B-D6BAA76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4A5-A15F-4D2F-BFCE-A2C7628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BA9-E18A-4527-8C73-B0BA04CBA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4828-D87A-4F80-BD0A-C95F6B5EC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 – Rea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 – scaffold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 – Reading A-Z /Readers Thea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07</cp:lastModifiedBy>
  <dcterms:modified xsi:type="dcterms:W3CDTF">2010-08-30T22:36:46Z</dcterms:modified>
  <cp:revision>6</cp:revision>
  <dc:subject/>
  <dc:title>TPACK Framework Activity </dc:title>
</cp:coreProperties>
</file>